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CBD3-745D-49DD-9783-C2F7248A2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7306-5F9C-45F3-BB3F-19BF485F7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9637-74F0-42AC-BB4E-9A80D1D12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25E3-6BF7-42CB-A4CD-599E1B381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E83EF-D83B-4211-AE33-5A36234FC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20F83-A7B6-4E4F-BA0B-E166D30C1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C1E12-8F01-4A73-8E51-F457048D0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077AD-5FEB-423F-A9CD-92AF70BA8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460CC-1499-41FE-9DA2-A7D675BBF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55945-34C4-41E9-A987-09F6CE63B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9E1CC-0D72-4CD6-B90E-5B11575E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C4B1-2050-4A71-857F-A04C17BA7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20F0B-318C-460F-B96C-9B14D7496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C06DD-27D0-4762-BFFF-7E26BC81F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33A09-A29A-44DD-89C7-DC35C27D8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FCAF9-A134-483D-8411-084096785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22ED9-43E0-4C6E-A77F-46A7DCDD3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42DD-B723-4DE2-98F1-ECBC9B935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7C57-B87E-418D-9813-CCCD51915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1F5D-0155-4EF3-A0C4-83579EF21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E29C-3B98-4105-8E30-79EBF0281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8121-F90F-47F8-A9BB-BF35A2D45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1F6B-D870-4DB4-BD09-22B20AE7D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F367-767B-4ADB-93D8-8C30FB811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EA716-5F15-4F97-9DB3-5A2F2D52B61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151E0-3FC3-4A84-BFB1-97EE79578AC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6633"/>
                </a:solidFill>
                <a:latin typeface="Garamond"/>
              </a:rPr>
              <a:t>Комбинированные задачи. 11 класс.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Garamond"/>
              </a:rPr>
              <a:t>1</a:t>
            </a:r>
            <a:r>
              <a:rPr b="0" lang="ru-RU" sz="4600" spc="-1" strike="noStrike">
                <a:solidFill>
                  <a:srgbClr val="000000"/>
                </a:solidFill>
                <a:latin typeface="Garamond"/>
              </a:rPr>
              <a:t>(159). При электролизе расплава хлорида кальция на аноде был получен хлор объемом 112 л (н.у.), а на катоде – кальций массой 180 г. Считая, что массовая доля выхода хлора равна 100%, определите массовую долю выхода кальция.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8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Garamond"/>
              </a:rPr>
              <a:t>2 (169). При электролизе водного раствора хлорида калия получен гидроксид калия массой 22,4 г. Определите массу воды, которая образуется при сгорании водорода, выделившегося в результате электролиза.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4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Garamond"/>
              </a:rPr>
              <a:t>3 (179). Железная пластинка имеет толщину 1 мм. Определите площадь куска этой пластины, в котором будет заключено 0,1 моль железа. Плотность металла равна 7,87 г/см</a:t>
            </a:r>
            <a:r>
              <a:rPr b="0" lang="ru-RU" sz="4800" spc="-1" strike="noStrike" baseline="30000">
                <a:solidFill>
                  <a:srgbClr val="000000"/>
                </a:solidFill>
                <a:latin typeface="Garamond"/>
              </a:rPr>
              <a:t>3</a:t>
            </a:r>
            <a:r>
              <a:rPr b="0" lang="ru-RU" sz="4800" spc="-1" strike="noStrike" baseline="-25000">
                <a:solidFill>
                  <a:srgbClr val="000000"/>
                </a:solidFill>
                <a:latin typeface="Garamond"/>
              </a:rPr>
              <a:t>.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9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aramond"/>
              </a:rPr>
              <a:t>4 (181). При действии водного раствора аммиака на раствор, содержащий один из хлоридов железа массой 3,81 г, получили гидроксид железа, масса которого составила 2,7 г. Определите формулу хлорида железа, который содержался в растворе.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3T16:54:34Z</dcterms:created>
  <dc:creator>Wadimus</dc:creator>
  <dc:description/>
  <dc:language>en-US</dc:language>
  <cp:lastModifiedBy>кабинет химии</cp:lastModifiedBy>
  <dcterms:modified xsi:type="dcterms:W3CDTF">2015-04-10T04:29:15Z</dcterms:modified>
  <cp:revision>4</cp:revision>
  <dc:subject/>
  <dc:title>1. При электролизе расплава хлорида кальция на аноде был получен хлор объемом 112 л (н.у.), а на катоде – кальций массой 180 г. Считая, что массовая доля выхода равна 100%, определите массовую долю выхода кальция.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